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A88-2D2C-4B6A-A555-086C20E8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046-CA2B-4F20-B098-8A991E2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C0D-72A6-41A5-920B-5072D9BF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1EF-353B-40C7-995B-791BC688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42A-C195-49FE-8B50-CDFCF25E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8F22-1F94-4A75-AF44-1D29C97A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EF6-62CC-4522-90E4-F4F0891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A04-DBE0-4B00-A20D-4EC8B66B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569-C582-4035-B35D-E6297D7E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D19-E214-4F11-B22A-C8256F2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23E-9D86-4098-AFB4-A1DB534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139-56A4-4647-B6D6-476DD2D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C2D2-2379-4643-8107-27C038C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3DFE-02E7-4989-8503-9F7A079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66B9-7D33-4706-876E-A0A4ECB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35D-0B46-4C8D-A971-E4EF138F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14BB-2512-4736-AB5F-DC17D2D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2F0-F843-436B-B41C-D5E1E2BF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86F-C130-4F03-9CD6-38D33C7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334-9157-4BAE-BFC8-76AEA6D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D2F-B98D-4640-ACA8-3235942F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9E8-82DD-4694-B8B0-1B5074A3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EB7-82FF-4312-A424-733136E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922-2108-45EE-9781-4FB3ADF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03C-FFDA-4523-99D4-23D9F494A6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294F-DB74-431F-A6CB-CAE474F698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192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Me llamo _________ Clase 6 NH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La fecha es el 14 de marzo del 201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34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Propósito # 47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¿Cómo es tu familia y tu cas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hermano de mi padre es mi 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hija de mis tíos es mi 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Yo soy _________ de los padres de mis pad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padres de mis padres son mis 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Verdana"/>
              </a:rPr>
              <a:t>Más vocabul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gat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kit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errito(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Puppy</a:t>
            </a:r>
            <a:r>
              <a:rPr b="0" lang="en-US" sz="3000" spc="-1" strike="noStrike">
                <a:solidFill>
                  <a:srgbClr val="a3b2c1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único(a)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en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youn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ay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ol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0" y="609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Verdana"/>
              </a:rPr>
              <a:t>La Sa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83200" y="3263760"/>
            <a:ext cx="253368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cc"/>
                </a:solidFill>
                <a:latin typeface="Verdana"/>
              </a:rPr>
              <a:t>El Come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43680" y="757080"/>
            <a:ext cx="3238200" cy="2062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3657600" y="1066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7672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562720" y="4419720"/>
            <a:ext cx="3095640" cy="2270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El Dorm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604980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La Re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952880" y="5105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876560" y="5867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5486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143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733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¿Qué cuarto 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44960" y="658800"/>
            <a:ext cx="2741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ff"/>
                </a:solidFill>
                <a:latin typeface="Verdana"/>
              </a:rPr>
              <a:t>La Coc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57800" y="1676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tch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898800" cy="2660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4419720" y="1294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495680" y="3678120"/>
            <a:ext cx="4127760" cy="2818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4114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El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12408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14240" y="2469960"/>
            <a:ext cx="1704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La Ca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38080" y="327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638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omic Sans MS"/>
              </a:rPr>
              <a:t>La Casa Pri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577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vat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1560" y="770040"/>
            <a:ext cx="3105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Verdana"/>
              </a:rPr>
              <a:t>El Edifi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Verdana"/>
              </a:rPr>
              <a:t>El Aparta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29000" cy="3129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9132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733920" y="10663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886200" y="49528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Ejercicio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41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Palabra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18-R19, en voz a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Historieta 1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. R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mpleta p. R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mpleta la hoja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Dos familias españo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4575240"/>
            <a:ext cx="6629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Tarea # 4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Repaso de vocabulario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8240" y="1676520"/>
            <a:ext cx="4052880" cy="510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18288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99"/>
                </a:solidFill>
                <a:latin typeface="Verdana"/>
              </a:rPr>
              <a:t>La Fami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81296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-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3080" y="2575080"/>
            <a:ext cx="447372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Los Parientes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El miembro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51460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9466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La famil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486400" y="4343400"/>
            <a:ext cx="2311560" cy="185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27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81280"/>
            <a:ext cx="228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la mam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290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9880" y="32004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(el papá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0240" y="327672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67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-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6324480"/>
            <a:ext cx="1447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7150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6248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3434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24360"/>
            <a:ext cx="1676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rothe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01132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4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6248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7280" y="2859120"/>
            <a:ext cx="2667240" cy="26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29200" y="717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37240" y="117468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20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Hermanastro</a:t>
            </a:r>
            <a:r>
              <a:rPr b="0" lang="es-ES_tradnl" sz="2400" spc="-1" strike="noStrike">
                <a:solidFill>
                  <a:srgbClr val="0033cc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epbroth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562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emelos/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w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533520"/>
            <a:ext cx="2590920" cy="207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" y="2205000"/>
            <a:ext cx="3319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82404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3276360" cy="240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4221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dr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3880" y="4738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9718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astra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2440" y="342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is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28804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padr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0160" y="5805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86200" y="4172040"/>
            <a:ext cx="1752480" cy="260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9132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4040" y="510552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668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ij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611028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te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s-MX" sz="2500" spc="-1" strike="noStrike">
                <a:solidFill>
                  <a:srgbClr val="0033cc"/>
                </a:solidFill>
                <a:latin typeface="Verdana"/>
              </a:rPr>
              <a:t>la tía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838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9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102240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el t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0920" y="289548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04080" y="30481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6480" y="350532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aunts &amp; 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32004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733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b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477120" y="990720"/>
            <a:ext cx="2286000" cy="21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33800" y="43434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952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(gi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47320" y="551664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60339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u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sob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6320" y="51195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592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sob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6120" y="59580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1520" y="4983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sob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37840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eces &amp; nep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628560"/>
            <a:ext cx="1882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8701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762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52920" y="7761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buel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04240" y="7621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m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019920" cy="402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09680" y="129528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029200" y="1295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15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715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Niet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7150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Granddaught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752480" y="449568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Verdana"/>
              </a:rPr>
              <a:t>Ni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6248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grandchild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5520" y="152280"/>
            <a:ext cx="188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Verdana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430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grand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57400" y="464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a 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678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es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78320" y="5119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94920" y="5105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6386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los esp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97520" y="617220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43040" y="676440"/>
            <a:ext cx="58579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29149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Verdana"/>
              </a:rPr>
              <a:t>mascota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76920" y="7621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e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080" y="1932120"/>
            <a:ext cx="10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51920" y="254160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3160" y="29224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3080" y="36846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22860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43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43434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0:06:43Z</dcterms:created>
  <dc:creator>Helen Zumaeta</dc:creator>
  <dc:description/>
  <dc:language>en-US</dc:language>
  <cp:lastModifiedBy>Helen Zumaeta</cp:lastModifiedBy>
  <dcterms:modified xsi:type="dcterms:W3CDTF">2012-03-14T16:59:43Z</dcterms:modified>
  <cp:revision>4</cp:revision>
  <dc:subject/>
  <dc:title>Me llamo _________ Clase 6 NH La fecha es el 14 de marzo del 2012</dc:title>
</cp:coreProperties>
</file>